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682-F701-4343-BF91-4B7F31C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B27-69DE-466D-B469-CDF7544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17C-8689-4148-AC7B-9DBE5976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8E9-C6BC-4B81-800D-708C2B96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0E1-5B9E-4C7B-A8F8-2AC9E40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618-058B-4025-AB3A-748EED4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18F-DB63-4603-9270-9F82D781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B43-7079-4AFA-B6F3-8BFC434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E6E-4C94-445E-988E-7912B65B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5FE-82A2-49CB-AF5F-8D3AD46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E2F-C20D-41CD-8AB1-73C726F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A0A-82B7-4937-BA6B-EA89E0F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3638-AD42-4320-86CB-BEE1BF8A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apyrus"/>
              </a:rPr>
              <a:t>Verbs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y: Ally, Sydney, and Sy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What do you need to learn from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You need to learn how to properly punctuat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You also need to know if and when characters move through out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Snap ITC"/>
              </a:rPr>
              <a:t>Lesson Pla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Do now with objectiv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students to identify verbs in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students “what’s a verb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Help them make examples of a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Give them at least 3 sentences with no verbs in it and ask them to put verbs in it to make it sound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them to make their own sentences with Verbs in it(5 sentences at the least</a:t>
            </a:r>
            <a:r>
              <a:rPr b="1" lang="en-US" sz="2400" spc="-1" strike="noStrike">
                <a:solidFill>
                  <a:srgbClr val="cc00ff"/>
                </a:solidFill>
                <a:latin typeface="Pupca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Earwig Factory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 can Identify Verbs to properly punctua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 words in the sentences below show mo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1. Cindy walked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Todd drove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3. The bike rolled dow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5056200"/>
            <a:ext cx="1344600" cy="180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Neuropol"/>
              </a:rPr>
              <a:t>What do you think is a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5120" y="5334120"/>
            <a:ext cx="182088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word that shows action or state of be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 run, swim, jump, taste, fall,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 of being: be, appear, seem,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o write juicy sentences without ver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! What a great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m.  Good food.  More cookies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ow long can you live with frag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pee"/>
              </a:rPr>
              <a:t>Senten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red car was driving down the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blue horse was jumping over the f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I skid across the fl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Lenny grabbed a pineap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phone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person on the floor crawled into the c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urlz MT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Sk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Grab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R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Craw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 drafting your narrative!  Use the graphic organizers from yesterday to guide your writ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ead Independent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Write down 5 action verbs on your index card as you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Turn in when you a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Essential Ques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How does knowing and using verbs make you a better r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7:28:35Z</dcterms:created>
  <dc:creator>Parkway</dc:creator>
  <dc:description/>
  <dc:language>en-US</dc:language>
  <cp:lastModifiedBy>Administrator</cp:lastModifiedBy>
  <dcterms:modified xsi:type="dcterms:W3CDTF">2010-10-19T14:13:02Z</dcterms:modified>
  <cp:revision>9</cp:revision>
  <dc:subject/>
  <dc:title>Do Now</dc:title>
</cp:coreProperties>
</file>